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8ED-633C-4DEB-8AA2-71DB4A41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D30-DB43-4F9F-9FE1-9211F7E5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C88-F33B-4DC0-A304-DFEB1BCE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38E-98DD-4A96-8941-11CCE450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A140-78BA-4D52-90DE-0F65593B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B240-ECF1-4CB6-946C-E8AF5361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8E2A-F77D-431B-BDF5-7114132A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DD7D-7B9C-4945-96C9-741F53B4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89E9-97B8-463E-8E3B-A90D5E48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7217-924E-40C4-AA6E-8271BF5D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1F6B-FC3B-44F8-AD71-AC856390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2AB-7CE1-4EF1-8DC9-FB474DC5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B1C9-5281-4BEB-AA8B-70A5776D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BA16-5EA0-4A7B-8695-B371E287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ACD3-DC35-4C14-989A-92C1F8C6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FB41-2BAF-487A-9971-E49DA3C3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7E84-44DD-4135-B407-AB2AC04C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351-6863-4754-93A0-3A4AE038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1C0-D0A8-49DE-A424-14441DDF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268-854D-474B-9BDE-38DDBF3F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C11-2AC1-46B0-AB87-980BAA11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2F3-A9BD-4DBE-8B4E-0212530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2A0-1957-4BCC-9908-17743F0D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7C8-63A7-4593-9F40-18C83422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365E-E3A0-40C1-AC7B-E28FFA993B0A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06BE-8939-45E7-9AD0-B7687B14DAC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OPADŁOŚC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JEGO WYMI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, SZEROKOŚĆ I WYSOKOŚĆ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097000" y="144936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144936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389320" y="5295960"/>
          <a:ext cx="240804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9320" y="5295960"/>
                    <a:ext cx="24080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754520" y="4429080"/>
          <a:ext cx="161784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54520" y="4429080"/>
                    <a:ext cx="161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499000" y="1719360"/>
          <a:ext cx="1278000" cy="274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9000" y="1719360"/>
                    <a:ext cx="12780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, SZEROKOŚĆ I WYSOKOŚĆ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640" y="1314000"/>
            <a:ext cx="83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ługość, szerokość i wysokość prostopadłościanu to wymiary prostoką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ysokość prostopadłościanu oznaczamy literą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46280" y="230364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230364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06:40Z</dcterms:modified>
  <cp:revision>92</cp:revision>
  <dc:subject/>
  <dc:title>Slajd 1</dc:title>
</cp:coreProperties>
</file>